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nts try out the probl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4801-C2EF-43DE-9870-ACC05D17901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work in pairs on one of the 3 interactions handouts (perhaps several at a table) and discuss whether the questions are evaluative or interpre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move on to see which help to make the thinking visible and which help to move students’ thinking forward (not an either or situ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8761-E5AD-4D59-A57E-E2B48027124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revisit the transcript to see if any of these types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6919-4D3E-45DA-98FD-33D59690696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revisit transcript to look for any of th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8A75-8855-4DED-8607-2735BA580A6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articipants to generate some more question 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FBD6-CE9D-47E9-8D0E-E48DE2ECB06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9F88-701D-4788-9C64-74149A20F20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2FCB-564E-4C54-8CA6-C5BBA5EBC27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video 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C62A-6708-475F-9673-B9BF89850F44}" type="slidenum"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9B63-E447-42DB-B0C1-B1FDEB4A48A2}" type="slidenum"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38080" y="41911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1879C-3C46-402F-99F0-537E45F57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079F1-CBC2-4B41-9DD9-F09BFC9EB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70411-3C50-4C58-8E2D-5FA3E19E1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35C6-7B39-4D6C-A721-406351606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E939-27D4-467B-A569-C507EA840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41E7-EA3B-478A-A260-996C531EC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3086-37E0-4EF7-9391-327644EA1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C3E65-F6E5-4BB8-97D7-E6C4875E6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9F68A-A3D2-4F00-AB3C-65DD5DDBC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02DB-0708-462D-A6A5-0C3BB2E63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9E0F-76D0-4367-8AA2-322FDA67D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7C7F0-A789-45CB-B824-218374877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214A-A332-447A-9A52-0CD5303C4A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6ecee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uqi-persimmons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478C-5E32-4890-9EC1-946A776B15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14040" y="31240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Questioning, listening and responding to promote students’ mathema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8c93"/>
                </a:solidFill>
                <a:latin typeface="Cambria"/>
              </a:rPr>
              <a:t>Dr. Chris Suurta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8c93"/>
                </a:solidFill>
                <a:latin typeface="Cambria"/>
              </a:rPr>
              <a:t>University of Otta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amining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98240" y="1406520"/>
            <a:ext cx="7396200" cy="4525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is probl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523880" y="1905120"/>
            <a:ext cx="7121520" cy="4463280"/>
          </a:xfrm>
          <a:prstGeom prst="rect">
            <a:avLst/>
          </a:prstGeom>
          <a:solidFill>
            <a:srgbClr val="66ffff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2c24"/>
                </a:solidFill>
                <a:latin typeface="Arial"/>
                <a:ea typeface="MS PGothic"/>
              </a:rPr>
              <a:t>Tug of war 1</a:t>
            </a:r>
            <a:r>
              <a:rPr b="0" lang="en-US" sz="2800" spc="-1" strike="noStrike">
                <a:solidFill>
                  <a:srgbClr val="302c24"/>
                </a:solidFill>
                <a:latin typeface="Arial"/>
                <a:ea typeface="MS PGothic"/>
              </a:rPr>
              <a:t>: 4 frogs on one side had a tie with 5 fairy godmothers on the other s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2c24"/>
                </a:solidFill>
                <a:latin typeface="Arial"/>
                <a:ea typeface="MS PGothic"/>
              </a:rPr>
              <a:t>Tug of war 2</a:t>
            </a:r>
            <a:r>
              <a:rPr b="0" lang="en-US" sz="2800" spc="-1" strike="noStrike">
                <a:solidFill>
                  <a:srgbClr val="302c24"/>
                </a:solidFill>
                <a:latin typeface="Arial"/>
                <a:ea typeface="MS PGothic"/>
              </a:rPr>
              <a:t>: 1dragon had a tie with 2 fairy godmothers and 1 fro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2c24"/>
                </a:solidFill>
                <a:latin typeface="Arial"/>
                <a:ea typeface="MS PGothic"/>
              </a:rPr>
              <a:t>Tug of war 3</a:t>
            </a:r>
            <a:r>
              <a:rPr b="0" lang="en-US" sz="2800" spc="-1" strike="noStrike">
                <a:solidFill>
                  <a:srgbClr val="302c24"/>
                </a:solidFill>
                <a:latin typeface="Arial"/>
                <a:ea typeface="MS PGothic"/>
              </a:rPr>
              <a:t>: 1 dragon and 3 fairy godmothers on one side and 4 frogs on the other s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2c24"/>
                </a:solidFill>
                <a:latin typeface="Arial"/>
                <a:ea typeface="MS PGothic"/>
              </a:rPr>
              <a:t>Who would win the 3rd tug of w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eachers’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7951680" cy="3886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8000"/>
          </a:bodyPr>
          <a:p>
            <a:pPr marL="37476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ine the questions in the transcript and consid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71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lead to evaluative listening and which lead to interpretive listening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71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71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71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71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71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help to make students’ mathematical thinking more visible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71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help to move the students’ mathematical thinking forwar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A framework for examining question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447560" y="1676520"/>
            <a:ext cx="6607080" cy="3657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ing for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ng group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reviewing or summarizing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ing students to explain their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for alternate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pting to go fa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acilitating teacher observa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8600" y="240840"/>
            <a:ext cx="7556400" cy="1220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other framework for analyzing teacher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057400" y="1447920"/>
          <a:ext cx="6858000" cy="4116240"/>
        </p:xfrm>
        <a:graphic>
          <a:graphicData uri="http://schemas.openxmlformats.org/drawingml/2006/table">
            <a:tbl>
              <a:tblPr/>
              <a:tblGrid>
                <a:gridCol w="6618240"/>
                <a:gridCol w="239760"/>
              </a:tblGrid>
              <a:tr h="436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Gathering information, leading students through a proced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401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Inserting termin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Exploring math meanings or relationshi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Probing, getting students to explain their thin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470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Generating discu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Linking and apply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Extending thin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Orienting and focu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Establishing con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</a:tbl>
          </a:graphicData>
        </a:graphic>
      </p:graphicFrame>
      <p:sp>
        <p:nvSpPr>
          <p:cNvPr id="131" name="TextBox 4"/>
          <p:cNvSpPr/>
          <p:nvPr/>
        </p:nvSpPr>
        <p:spPr>
          <a:xfrm>
            <a:off x="5145120" y="6450120"/>
            <a:ext cx="36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oaler &amp; Brodie,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tinuing the dialogue: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question do I ask next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not so easy a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how the student(s) has just respo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how well you (the teacher) list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the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be easily pr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s’ respons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insight into their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minate ways that students understand concepts (different understandings and different concep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examples of ways of thinking to othe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But it is not just about teachers asking questions and students respond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ca9"/>
                </a:solidFill>
                <a:latin typeface="Arial"/>
              </a:rPr>
              <a:t>Moving from teacher to student interaction to student to student interactio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39" name="Content Placeholder 5" descr=""/>
          <p:cNvPicPr/>
          <p:nvPr/>
        </p:nvPicPr>
        <p:blipFill>
          <a:blip r:embed="rId1"/>
          <a:stretch/>
        </p:blipFill>
        <p:spPr>
          <a:xfrm>
            <a:off x="500040" y="1981080"/>
            <a:ext cx="7553520" cy="41450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"/>
          <p:cNvSpPr/>
          <p:nvPr/>
        </p:nvSpPr>
        <p:spPr>
          <a:xfrm>
            <a:off x="4546440" y="224784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e network of conversation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to student questi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42" name="Content Placeholder 5" descr=""/>
          <p:cNvPicPr/>
          <p:nvPr/>
        </p:nvPicPr>
        <p:blipFill>
          <a:blip r:embed="rId1"/>
          <a:stretch/>
        </p:blipFill>
        <p:spPr>
          <a:xfrm>
            <a:off x="500040" y="1981080"/>
            <a:ext cx="7553520" cy="41450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"/>
          <p:cNvSpPr/>
          <p:nvPr/>
        </p:nvSpPr>
        <p:spPr>
          <a:xfrm>
            <a:off x="5105520" y="22096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e network of conversation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Straight Arrow Connector 3"/>
          <p:cNvCxnSpPr/>
          <p:nvPr/>
        </p:nvCxnSpPr>
        <p:spPr>
          <a:xfrm>
            <a:off x="1561680" y="4267080"/>
            <a:ext cx="546480" cy="7120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5" name="Straight Arrow Connector 7"/>
          <p:cNvCxnSpPr/>
          <p:nvPr/>
        </p:nvCxnSpPr>
        <p:spPr>
          <a:xfrm flipH="1">
            <a:off x="2273040" y="3200040"/>
            <a:ext cx="717840" cy="1778760"/>
          </a:xfrm>
          <a:prstGeom prst="straightConnector1">
            <a:avLst/>
          </a:prstGeom>
          <a:ln w="25560">
            <a:solidFill>
              <a:srgbClr val="3c8c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6" name="Straight Arrow Connector 8"/>
          <p:cNvCxnSpPr/>
          <p:nvPr/>
        </p:nvCxnSpPr>
        <p:spPr>
          <a:xfrm>
            <a:off x="3263400" y="3555720"/>
            <a:ext cx="546480" cy="711720"/>
          </a:xfrm>
          <a:prstGeom prst="straightConnector1">
            <a:avLst/>
          </a:prstGeom>
          <a:ln w="25560">
            <a:solidFill>
              <a:srgbClr val="3c8c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7" name="Straight Arrow Connector 9"/>
          <p:cNvCxnSpPr/>
          <p:nvPr/>
        </p:nvCxnSpPr>
        <p:spPr>
          <a:xfrm flipH="1">
            <a:off x="1447560" y="3403440"/>
            <a:ext cx="1543680" cy="610560"/>
          </a:xfrm>
          <a:prstGeom prst="straightConnector1">
            <a:avLst/>
          </a:prstGeom>
          <a:ln w="25560">
            <a:solidFill>
              <a:srgbClr val="3c8c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8" name="Straight Arrow Connector 12"/>
          <p:cNvCxnSpPr/>
          <p:nvPr/>
        </p:nvCxnSpPr>
        <p:spPr>
          <a:xfrm flipH="1">
            <a:off x="2640960" y="5105520"/>
            <a:ext cx="826200" cy="305280"/>
          </a:xfrm>
          <a:prstGeom prst="straightConnector1">
            <a:avLst/>
          </a:prstGeom>
          <a:ln w="25560">
            <a:solidFill>
              <a:srgbClr val="3c8c93"/>
            </a:solidFill>
            <a:miter/>
            <a:headEnd len="med" type="arrow" w="med"/>
            <a:tailEnd len="med" type="arrow" w="med"/>
          </a:ln>
        </p:spPr>
      </p:cxnSp>
      <p:sp>
        <p:nvSpPr>
          <p:cNvPr id="149" name="TextBox 15"/>
          <p:cNvSpPr/>
          <p:nvPr/>
        </p:nvSpPr>
        <p:spPr>
          <a:xfrm>
            <a:off x="5384880" y="3911760"/>
            <a:ext cx="18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 talk learning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amining student inte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8600" y="1600200"/>
            <a:ext cx="7556400" cy="4525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at ways might you describe these students’ convers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their discussion has been facilitat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67080" y="4624560"/>
            <a:ext cx="4572000" cy="933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b5ca9"/>
                </a:solidFill>
                <a:latin typeface="Arial"/>
              </a:rPr>
              <a:t>Reflection:  Our assessment place in the world</a:t>
            </a:r>
            <a:endParaRPr b="0" lang="en-US" sz="25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343400" y="548604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Arial"/>
              </a:rPr>
              <a:t>(An asi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Content Placeholder 7" descr="DSCN2196.JPG"/>
          <p:cNvPicPr/>
          <p:nvPr/>
        </p:nvPicPr>
        <p:blipFill>
          <a:blip r:embed="rId1"/>
          <a:srcRect l="12157" t="0" r="12157" b="0"/>
          <a:stretch/>
        </p:blipFill>
        <p:spPr>
          <a:xfrm>
            <a:off x="4624560" y="228600"/>
            <a:ext cx="2057400" cy="2038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Placeholder 14" descr="DSCN2146.JPG"/>
          <p:cNvPicPr/>
          <p:nvPr/>
        </p:nvPicPr>
        <p:blipFill>
          <a:blip r:embed="rId2"/>
          <a:srcRect l="0" t="12848" r="0" b="12848"/>
          <a:stretch/>
        </p:blipFill>
        <p:spPr>
          <a:xfrm>
            <a:off x="6802560" y="2378160"/>
            <a:ext cx="2057400" cy="2038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856800" y="1779120"/>
            <a:ext cx="308628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8" descr="DSCN2259.JPG"/>
          <p:cNvPicPr/>
          <p:nvPr/>
        </p:nvPicPr>
        <p:blipFill>
          <a:blip r:embed="rId3"/>
          <a:stretch/>
        </p:blipFill>
        <p:spPr>
          <a:xfrm>
            <a:off x="533520" y="1295280"/>
            <a:ext cx="3671640" cy="27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9036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Providing question stems to students to promote student interaction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520" y="228600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you use . . .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de you think to start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diagram (graph, model, etc.) help you solve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scriptive 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98600" y="1346040"/>
            <a:ext cx="7556400" cy="3911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pecific qualities of the work in relation to th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observations about students' learning processes and strategies that will help them figure out how to 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 student self-efficacy by drawing connections between students' work and their mindful, intentional ef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person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5720760" y="5334120"/>
            <a:ext cx="137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(Brookhart, 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ings to consid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8c93"/>
                </a:solidFill>
                <a:latin typeface="Arial"/>
              </a:rPr>
              <a:t>Foc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ask, process, self-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8c93"/>
                </a:solidFill>
                <a:latin typeface="Arial"/>
              </a:rPr>
              <a:t>Compari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riterion-referenced, self-refere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8c93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escriptive, naming weaknesses or strengths in terms of criteria, suggests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8c93"/>
                </a:solidFill>
                <a:latin typeface="Arial"/>
              </a:rPr>
              <a:t>T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ositive, open, seek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62F8-4C04-4E7F-81A6-1C6D7F83AD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3409-E933-41D5-93BD-E22A3A4439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371600"/>
          <a:ext cx="8229600" cy="4033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9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, rather than . .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 explanation might not convince a reader that your solution is correct. What else could you do to explain your thinking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detail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solution is organized in such a way that it is very easy to follow your thinking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at job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clear from the way you connected the diagram to the equation that you understand the algebra that you are using to solve the problem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is the best solution in the class!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Now you try i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352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to your neighbour and provide some descriptive feedback about something they did, or an experience that you had so far at Math Campp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5B8C-BFB6-404A-8AD5-F75F0DB171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218960" y="2742840"/>
            <a:ext cx="297180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Placeholder 13" descr="uqi-persimmons.jpg">
            <a:hlinkClick r:id="rId1"/>
          </p:cNvPr>
          <p:cNvPicPr/>
          <p:nvPr/>
        </p:nvPicPr>
        <p:blipFill>
          <a:blip r:embed="rId2"/>
          <a:srcRect l="5410" t="0" r="5410" b="0"/>
          <a:stretch/>
        </p:blipFill>
        <p:spPr>
          <a:xfrm>
            <a:off x="5486400" y="685800"/>
            <a:ext cx="3164040" cy="44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93600"/>
            <a:ext cx="8177040" cy="1031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y formative assessment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1268280"/>
            <a:ext cx="8250120" cy="4857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indicates that the use of formative assessment practices enhances student achievement and creates a classroom culture of success (Black &amp; Wiliam, 1998; Brookhart, 2001; Gipps, 1994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formative assessment both teachers and students have a voice in the assessment process and students develop responsibility for their learning (Arter, 2003; McMillan, 200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93600"/>
            <a:ext cx="8177040" cy="1031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y formative assessment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4920" y="1574280"/>
            <a:ext cx="8250120" cy="408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ive assessment helps all students b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ularly low achiever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us it helps to close the gap while raising achievement overall (Black &amp; Wiliam, 1998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321840"/>
            <a:ext cx="7669440" cy="730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orms of formative assess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600200" y="1600200"/>
            <a:ext cx="8158320" cy="5106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r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 and feedback on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fol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ive 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ing, listening and respo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93240"/>
            <a:ext cx="8250120" cy="1606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9640" y="2133720"/>
            <a:ext cx="8105760" cy="3992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in twos or threes at your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examples of formative assessment in your cont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CB54-3583-4A18-BFA1-38B86CE3976D}" type="slidenum">
              <a:rPr b="0" lang="en-US" sz="1400" spc="-1" strike="noStrike">
                <a:solidFill>
                  <a:srgbClr val="000000"/>
                </a:solidFill>
                <a:latin typeface="Perpetua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74680"/>
            <a:ext cx="7467480" cy="789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  <a:ea typeface="MS PGothic"/>
              </a:rPr>
              <a:t>Focus on Questioning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38040" indent="-3380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s provoke students’ reasoning about mathematics through the tasks they provide and the questions they ask (NCTM, 199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7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king questions that reveal students’ knowledge about mathematics allows teachers to design instruction that responds to and builds on this knowledge (NCTM, 200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are one of the only tools teachers have for finding out what students are thinking (Michaels, 200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0E93-3C43-4610-B7BC-FBA3E3E47789}" type="slidenum">
              <a:rPr b="0" lang="en-US" sz="1400" spc="-1" strike="noStrike">
                <a:solidFill>
                  <a:srgbClr val="000000"/>
                </a:solidFill>
                <a:latin typeface="Perpetua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74680"/>
            <a:ext cx="7467480" cy="789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  <a:ea typeface="MS PGothic"/>
              </a:rPr>
              <a:t>Why Focus on Questioning?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33440"/>
            <a:ext cx="7848720" cy="422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e3611"/>
                </a:solidFill>
                <a:latin typeface="Arial"/>
                <a:ea typeface="Times New Roman"/>
              </a:rPr>
              <a:t>Teachers’ questions are crucial in helping students make connections and learn important mathematics and science concepts.</a:t>
            </a:r>
            <a:r>
              <a:rPr b="0" lang="en-US" sz="2400" spc="-1" strike="noStrike">
                <a:solidFill>
                  <a:srgbClr val="9e3611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s need to know how students typically think about particular concepts, how to determine what a particular student or group of students’ thinks about those ideas, and how to help students deepen their understanding.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eiss &amp; Pasley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ypes of questioning &gt; liste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3520" y="1854360"/>
            <a:ext cx="3620880" cy="3403440"/>
          </a:xfrm>
          <a:prstGeom prst="rect">
            <a:avLst/>
          </a:prstGeom>
          <a:solidFill>
            <a:srgbClr val="b3b3b3"/>
          </a:solidFill>
          <a:ln w="12600">
            <a:solidFill>
              <a:srgbClr val="bfbfbf"/>
            </a:solidFill>
            <a:miter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ing to see if they have it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2 plus 3 is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, what step comes nex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343400" y="1854360"/>
            <a:ext cx="4051440" cy="33271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ing to understand their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know it’s lin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you think the answer is 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8600" y="1438200"/>
            <a:ext cx="3657600" cy="324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lIns="50760" tIns="50760" bIns="50760" anchor="b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00280" y="1438200"/>
            <a:ext cx="3994200" cy="324000"/>
          </a:xfrm>
          <a:prstGeom prst="rect">
            <a:avLst/>
          </a:prstGeom>
          <a:solidFill>
            <a:srgbClr val="4597a0"/>
          </a:solidFill>
          <a:ln w="0">
            <a:noFill/>
          </a:ln>
        </p:spPr>
        <p:txBody>
          <a:bodyPr lIns="50760" tIns="50760" bIns="50760" anchor="b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5722200" y="51814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avis, 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s.yearley</cp:lastModifiedBy>
  <dcterms:modified xsi:type="dcterms:W3CDTF">2012-08-22T13:26:18Z</dcterms:modified>
  <cp:revision>19</cp:revision>
  <dc:subject/>
  <dc:title>&lt;Title&gt;</dc:title>
</cp:coreProperties>
</file>